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7B8-B9D8-42D8-8E55-236161B6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15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29560"/>
            <a:ext cx="90615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6FC-7825-4D60-ABE9-B66B37AF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295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1295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18A-BEF9-4524-9BBD-8CF9BFA4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79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295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1295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1295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839-3D71-4606-B29E-97279AD9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15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5EA-24BB-440E-BFFE-65F9A4B9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15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22F-7DA4-43F9-9E2B-E031C63D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8B3-91DE-4C14-94C5-BEC98002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EE1-4FCE-4A97-A001-2A3FBD9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10C-1D7D-41B2-9AA6-3324E4A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295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075-60BF-448C-A7C7-1FD649B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1295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E9C-D056-4836-AF88-22D38925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29560"/>
            <a:ext cx="90615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D33-69F5-427D-BE39-05354221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15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7080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67080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67080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DE002-D728-4233-98AD-00517DCEE3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82680"/>
            <a:ext cx="907092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imited W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 war fought to achieve a limited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ruman favored limite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Fear of nuclear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haped American foreign policy throughout Cold       W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0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F. Changes in Policy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North Korean troops pushed back across 38</a:t>
            </a:r>
            <a:r>
              <a:rPr b="0" lang="en-US" sz="3200" spc="-1" strike="noStrike" baseline="33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eace negotiations in 1951, armistice signed in July of 19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mportant turning po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US contained Communism w/ economic and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US starts major military buil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0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old War now in Asia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768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1954: SEATO 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outheast Asia Treat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American is now sending aid to French troops in      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30480" y="3846600"/>
            <a:ext cx="8001000" cy="37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0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esson Objec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tudents will be able to explain why the US got involved in the Korean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tudents will be able to explain why Japan became America's 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students will be able to explain why MacArthur was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A. The Chinese Revolu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mmunist vs. Nationalist gover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Mao Zedong, Commu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hiang Kai-sheck, Natio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Communists take over and establish the People's   Republic of China in 19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Fall to Communism shocks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oviets and Communist China sign trea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51444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o Zedong                                       Chiang Kai-s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2040" y="2332080"/>
            <a:ext cx="3508560" cy="487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83360" y="2484360"/>
            <a:ext cx="354312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B. New Policies in Japa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n. MacArthur in Japan to establish demo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Japan now becomes the US ally in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Rapid recovery in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Japan was key to defeating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0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. The Korean War Begin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orea divided at 38</a:t>
            </a:r>
            <a:r>
              <a:rPr b="0" lang="en-US" sz="3200" spc="-1" strike="noStrike" baseline="33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llel line after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oviets in the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US in the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orth Korean troops invade the south on June 25th, 19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US air and naval forces called to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UN troops get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MacArthur orders invasion behind enemy li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6944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01880" y="326880"/>
            <a:ext cx="8001000" cy="692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. China Enter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**MacArthur wants to expand war against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Blockade of China's 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Use the Nationalist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**Use atomic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0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. Truman Fires MacArthu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ruman denies request, no China or atomic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acArthur criticizes Truman; all resources should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ril 1951, MacArthur fired by Truman for insub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Public supports MacArth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ongress and military support Tru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0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2:21:36Z</dcterms:created>
  <dc:creator>Courtney Huro</dc:creator>
  <dc:description>Presentation Layout Template</dc:description>
  <dc:language>en-US</dc:language>
  <cp:lastModifiedBy>School District U46</cp:lastModifiedBy>
  <dcterms:modified xsi:type="dcterms:W3CDTF">2011-02-23T17:21:14Z</dcterms:modified>
  <cp:revision>5</cp:revision>
  <dc:subject/>
  <dc:title>Blue and Red Gradient</dc:title>
</cp:coreProperties>
</file>